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1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1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1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5BE3-16C9-40F1-921D-681AF2D3C34E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1D65-54DF-4805-9E68-45D43EE655A6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1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F757F828-1A19-460F-8958-9AF503E08514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D24-A0B7-41D9-A0B8-D1A2572D297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8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707DF1F9-2473-41CC-855A-54B5D06940F6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ftr" idx="2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E27B-2A36-48DB-B239-7D15DF36B6B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50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88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ED497E3-D945-4823-9C5F-6070B6BFEEAA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90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81A6-AB55-4AE6-8195-F9C4071D656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C60472DE-8401-449D-A22F-C0394D552AD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6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6DC0-13B4-4A66-A929-0703BB4439F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179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F5EF974B-EDEB-44D1-ADB2-F05A14CA3FB6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81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7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8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1A25-C5F2-45D5-8E16-6892F800C3D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25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37C770B4-467A-462B-A62E-B92F61A0A19B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27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9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A67-9AE8-4206-BC56-931F8B191B8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271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FDCAFD72-DDD7-49CD-B188-28B136C15F65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73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any presentation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dt" idx="1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33BB-8FE3-4AB8-8F18-67D0218EF15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317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0436E76-6D10-4DAA-BCD5-2F153B5233D1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19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3"/>
          </p:nvPr>
        </p:nvSpPr>
        <p:spPr>
          <a:xfrm>
            <a:off x="2862360" y="6581520"/>
            <a:ext cx="34192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dt" idx="1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DFB1-2691-4648-9EE1-FE09B7D883A6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Grafik 7" descr=""/>
          <p:cNvPicPr/>
          <p:nvPr/>
        </p:nvPicPr>
        <p:blipFill>
          <a:blip r:embed="rId2"/>
          <a:stretch/>
        </p:blipFill>
        <p:spPr>
          <a:xfrm>
            <a:off x="5091120" y="212760"/>
            <a:ext cx="2476440" cy="1031760"/>
          </a:xfrm>
          <a:prstGeom prst="rect">
            <a:avLst/>
          </a:prstGeom>
          <a:ln w="0">
            <a:noFill/>
          </a:ln>
        </p:spPr>
      </p:pic>
      <p:pic>
        <p:nvPicPr>
          <p:cNvPr id="363" name="Grafik 8" descr=""/>
          <p:cNvPicPr/>
          <p:nvPr/>
        </p:nvPicPr>
        <p:blipFill>
          <a:blip r:embed="rId3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2525358D-24AD-4142-A0E6-DEF2D7F200F2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65" name="Picture 33" descr="C:\Users\kalpanal\AppData\Local\Temp\Temp1_ELdZ_ML_en_2.zip\ELdZ_ML_en\Internet\ELdZ_ml_web_en.gif"/>
          <p:cNvPicPr/>
          <p:nvPr/>
        </p:nvPicPr>
        <p:blipFill>
          <a:blip r:embed="rId4"/>
          <a:stretch/>
        </p:blipFill>
        <p:spPr>
          <a:xfrm>
            <a:off x="7281720" y="125280"/>
            <a:ext cx="1590840" cy="11192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C:\Users\joannaa\Documents\Logos\EU2.png"/>
          <p:cNvPicPr/>
          <p:nvPr/>
        </p:nvPicPr>
        <p:blipFill>
          <a:blip r:embed="rId5"/>
          <a:stretch/>
        </p:blipFill>
        <p:spPr>
          <a:xfrm>
            <a:off x="220680" y="212760"/>
            <a:ext cx="1177920" cy="790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0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5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084-5B61-4E2B-929B-2B4274014058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6"/>
          </p:nvPr>
        </p:nvSpPr>
        <p:spPr>
          <a:xfrm>
            <a:off x="364680" y="6600600"/>
            <a:ext cx="630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B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Times New Roman"/>
              </a:rPr>
              <a:t>SPC/GIZ “Coping with Climate Change in the  Pacific Island Region” CCCP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9" descr=""/>
          <p:cNvPicPr/>
          <p:nvPr/>
        </p:nvPicPr>
        <p:blipFill>
          <a:blip r:embed="rId1"/>
          <a:stretch/>
        </p:blipFill>
        <p:spPr>
          <a:xfrm>
            <a:off x="4665600" y="3371760"/>
            <a:ext cx="4465800" cy="3029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27000" y="3371760"/>
            <a:ext cx="4719600" cy="3029040"/>
          </a:xfrm>
          <a:prstGeom prst="rect">
            <a:avLst/>
          </a:prstGeom>
          <a:ln w="0">
            <a:noFill/>
          </a:ln>
        </p:spPr>
      </p:pic>
      <p:sp>
        <p:nvSpPr>
          <p:cNvPr id="417" name="Datumsplatzhalt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CB4-FF24-4D11-8240-27A053D1BD9A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8" name="Title 1"/>
          <p:cNvSpPr/>
          <p:nvPr/>
        </p:nvSpPr>
        <p:spPr>
          <a:xfrm>
            <a:off x="12600" y="1411200"/>
            <a:ext cx="9144000" cy="196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EU - GIZ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Adapting to Climate Change and Sustainable Energy (ACSE)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9" name="Subtitle 2"/>
          <p:cNvSpPr/>
          <p:nvPr/>
        </p:nvSpPr>
        <p:spPr>
          <a:xfrm>
            <a:off x="711360" y="5902200"/>
            <a:ext cx="7775280" cy="486000"/>
          </a:xfrm>
          <a:prstGeom prst="rect">
            <a:avLst/>
          </a:prstGeom>
          <a:solidFill>
            <a:srgbClr val="0070c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Calibri"/>
              </a:rPr>
              <a:t>Dr. Wulf Killmann, GIZ Programme Director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147600" y="9684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99"/>
                </a:solidFill>
                <a:latin typeface="Arial"/>
                <a:ea typeface="Arial"/>
              </a:rPr>
              <a:t>European Union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88960" y="981000"/>
            <a:ext cx="703440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61600" y="1720800"/>
            <a:ext cx="8093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Part of the regional EU- ACSE programm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EDF 10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18.64 Million Euro/5 years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15 ACP countries, 14 PICs &amp; Timor Lest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Focus implementation on the ground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Managed by GIZ Pacific Office in Suva, Fiji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6452"/>
                </a:solidFill>
                <a:latin typeface="Calibri"/>
              </a:rPr>
              <a:t>Implemented by PACPs with partners of their choice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39680" y="1698480"/>
            <a:ext cx="7034400" cy="4523040"/>
          </a:xfrm>
          <a:prstGeom prst="rect">
            <a:avLst/>
          </a:prstGeom>
          <a:ln w="0">
            <a:noFill/>
          </a:ln>
        </p:spPr>
      </p:pic>
      <p:sp>
        <p:nvSpPr>
          <p:cNvPr id="42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612-8935-42E4-8BC3-F9B29E0C93EB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255600" y="1492200"/>
            <a:ext cx="8631360" cy="4815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426" name="Oval 5"/>
          <p:cNvSpPr/>
          <p:nvPr/>
        </p:nvSpPr>
        <p:spPr>
          <a:xfrm>
            <a:off x="847800" y="2111400"/>
            <a:ext cx="2581200" cy="91908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255600" y="2411280"/>
            <a:ext cx="671400" cy="5781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5349960" y="5008680"/>
            <a:ext cx="581040" cy="52524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9" name="Oval 9"/>
          <p:cNvSpPr/>
          <p:nvPr/>
        </p:nvSpPr>
        <p:spPr>
          <a:xfrm>
            <a:off x="3375000" y="3003480"/>
            <a:ext cx="701640" cy="577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0" name="Oval 10"/>
          <p:cNvSpPr/>
          <p:nvPr/>
        </p:nvSpPr>
        <p:spPr>
          <a:xfrm>
            <a:off x="6467400" y="4797360"/>
            <a:ext cx="955800" cy="7365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1" name="Oval 11"/>
          <p:cNvSpPr/>
          <p:nvPr/>
        </p:nvSpPr>
        <p:spPr>
          <a:xfrm>
            <a:off x="5878440" y="5008680"/>
            <a:ext cx="588960" cy="52524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2" name="Oval 12"/>
          <p:cNvSpPr/>
          <p:nvPr/>
        </p:nvSpPr>
        <p:spPr>
          <a:xfrm>
            <a:off x="4456080" y="3751200"/>
            <a:ext cx="801720" cy="579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3" name="Oval 13"/>
          <p:cNvSpPr/>
          <p:nvPr/>
        </p:nvSpPr>
        <p:spPr>
          <a:xfrm>
            <a:off x="741240" y="3317760"/>
            <a:ext cx="2235240" cy="128772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790720" y="3898800"/>
            <a:ext cx="1438560" cy="579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086280" y="1758960"/>
            <a:ext cx="1895400" cy="9414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5592600" y="4397400"/>
            <a:ext cx="573120" cy="415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402080" y="4719600"/>
            <a:ext cx="947880" cy="5778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3586320" y="4719600"/>
            <a:ext cx="761760" cy="47160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4033800" y="2700360"/>
            <a:ext cx="4289400" cy="12351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3"/>
          <a:stretch/>
        </p:blipFill>
        <p:spPr>
          <a:xfrm>
            <a:off x="0" y="4924440"/>
            <a:ext cx="2460600" cy="1933560"/>
          </a:xfrm>
          <a:prstGeom prst="rect">
            <a:avLst/>
          </a:prstGeom>
          <a:ln w="15840">
            <a:solidFill>
              <a:srgbClr val="0070c0"/>
            </a:solidFill>
            <a:miter/>
          </a:ln>
        </p:spPr>
      </p:pic>
      <p:sp>
        <p:nvSpPr>
          <p:cNvPr id="441" name="Oval 21"/>
          <p:cNvSpPr/>
          <p:nvPr/>
        </p:nvSpPr>
        <p:spPr>
          <a:xfrm>
            <a:off x="741240" y="5025960"/>
            <a:ext cx="1812960" cy="1287360"/>
          </a:xfrm>
          <a:prstGeom prst="ellipse">
            <a:avLst/>
          </a:prstGeom>
          <a:noFill/>
          <a:ln w="44280">
            <a:solidFill>
              <a:srgbClr val="1449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6360" y="1074600"/>
            <a:ext cx="7034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CSE  Technical Staff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40840" y="1698480"/>
            <a:ext cx="84330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Coordinato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5 Technical experts based with GIZ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Energy, food security &amp; livelihoods, civil engineering,  coastal &amp; marine ecosystem-based adaptation, information, kowledge &amp; M&amp;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Assist countries to prepare concepts &amp;  proposal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Advise countries and partners in implementation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Form part of the Regional Technical Support Mechanism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In country coordinator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4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CB9D-0810-4FF7-9BB1-8EB0E671EC5E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760" y="1147680"/>
            <a:ext cx="777528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ception Phase (12 months)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623-3AC0-47E4-9CBB-5CE619F597B5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4200" y="1789200"/>
            <a:ext cx="79754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Staff recruitmen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Regional Inception workshop on May 29-30 in Suva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Identification of focal points within each PACP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Set up of the  Regional Steering Committe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Set up of Assessment Boar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Call for Concept Notes in first half 2014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Countries select their implementing partner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e645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e6452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07080" indent="-30708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71520" y="1035000"/>
            <a:ext cx="70358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Inception Phase 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8200" y="1698480"/>
            <a:ext cx="82836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Evaluation &amp; selection of concept note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4 sub-regional workshops to share concept notes and receive feedback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799"/>
              </a:spcAft>
              <a:buClr>
                <a:srgbClr val="c80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Writing full proposals – assistance from RTSM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e6452"/>
                </a:solidFill>
                <a:latin typeface="Arial"/>
              </a:rPr>
              <a:t>GIZ signs contracts with implementing partners identified by PACPs in selected proposal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Arial"/>
              </a:rPr>
              <a:t>Move to implementation phase (48 months)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e6452"/>
                </a:solidFill>
                <a:latin typeface="Calibri"/>
                <a:ea typeface="Calibri"/>
              </a:rPr>
              <a:t>There may be a round 2 of calls for proposals depending on the results of round 1 and funding availability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C63E-5BA4-41B9-B3A6-7690ACFD6627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31760" y="941040"/>
            <a:ext cx="703440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U- GCCA TIMOR LESTE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561600" y="1398240"/>
            <a:ext cx="8093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452"/>
                </a:solidFill>
                <a:latin typeface="Calibri"/>
              </a:rPr>
              <a:t>Contribution to the sustainable well-being of rural communities in Timor Leste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4 Million Euro/5 years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GIZ  &amp;  Portuguese Cooperation  CAMOE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CCA mainstreaming  &amp; adaptation activities on the ground in selected watersheds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Lead-Counterpart: Ministry of Agricultur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</a:rPr>
              <a:t>In coordination with other GoTL institutions on climate change / rural developmen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36360" y="1074600"/>
            <a:ext cx="70340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GCCA results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40840" y="1734840"/>
            <a:ext cx="8433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Meterological mechanisms are  operational &amp; monitor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Awareness on climate change  &amp; its impacts rais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Capacities on cc adaptation strengthened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Resilience of communities enhanced  (watershed management, development planning)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303-047B-4144-A66A-0D79C54029E6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9" name="Title 1"/>
          <p:cNvSpPr/>
          <p:nvPr/>
        </p:nvSpPr>
        <p:spPr>
          <a:xfrm>
            <a:off x="927000" y="4265640"/>
            <a:ext cx="703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eans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0" name="Content Placeholder 2"/>
          <p:cNvSpPr/>
          <p:nvPr/>
        </p:nvSpPr>
        <p:spPr>
          <a:xfrm>
            <a:off x="231840" y="4889520"/>
            <a:ext cx="84326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301320" indent="-3013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Policy and technical advise through national, regional and international TA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01320" indent="-301320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6452"/>
                </a:solidFill>
                <a:latin typeface="Calibri"/>
                <a:ea typeface="Calibri"/>
              </a:rPr>
              <a:t>Limited= provision of inputs and tools for implementation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090440" y="1555920"/>
            <a:ext cx="7034400" cy="676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58920" indent="-35892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2" name="Date Placeholder 3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7399-9D5E-41D8-9B2A-A329FAE051AB}" type="datetime">
              <a:rPr b="0" lang="de-DE" sz="1000" spc="-1" strike="noStrike">
                <a:solidFill>
                  <a:srgbClr val="6e6452"/>
                </a:solidFill>
                <a:latin typeface="Arial Narrow"/>
              </a:rPr>
              <a:t>29.07.26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65040" y="6600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1200" spc="-1" strike="noStrike">
                <a:solidFill>
                  <a:srgbClr val="ffffff"/>
                </a:solidFill>
                <a:latin typeface="Arial"/>
              </a:rPr>
              <a:t>SPC/GIZ “Coping with Climate Change in the  Pacific Island Region” CCCPIR</a:t>
            </a:r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0" y="2505240"/>
            <a:ext cx="4984920" cy="3398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"/>
          <p:cNvPicPr/>
          <p:nvPr/>
        </p:nvPicPr>
        <p:blipFill>
          <a:blip r:embed="rId2"/>
          <a:stretch/>
        </p:blipFill>
        <p:spPr>
          <a:xfrm>
            <a:off x="4606920" y="2505240"/>
            <a:ext cx="4537080" cy="339876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"/>
          <p:cNvSpPr/>
          <p:nvPr/>
        </p:nvSpPr>
        <p:spPr>
          <a:xfrm>
            <a:off x="2106720" y="2505240"/>
            <a:ext cx="4572000" cy="581400"/>
          </a:xfrm>
          <a:prstGeom prst="rect">
            <a:avLst/>
          </a:prstGeom>
          <a:solidFill>
            <a:srgbClr val="0070c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VINAKA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3:16:46Z</dcterms:created>
  <dc:creator>Claudia Ilting</dc:creator>
  <dc:description/>
  <cp:keywords>GIZ-Leerfolie</cp:keywords>
  <dc:language>en-US</dc:language>
  <cp:lastModifiedBy>Katya</cp:lastModifiedBy>
  <cp:lastPrinted>2012-07-19T10:16:59Z</cp:lastPrinted>
  <dcterms:modified xsi:type="dcterms:W3CDTF">2015-01-16T12:03:02Z</dcterms:modified>
  <cp:revision>172</cp:revision>
  <dc:subject/>
  <dc:title>PowerPoint Presentation</dc:title>
</cp:coreProperties>
</file>